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4CB-5D44-4551-9631-35E88146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5848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5AD-ED7E-4DEF-8679-DEEFDBBD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439-E22A-4154-9F92-476DA30A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987-1A16-457B-862A-57238ECD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51FF-7FCC-4632-9EB9-41FB2A6A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7AD7-0526-44A2-8984-5C5E89E5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3F8B-2E19-49D5-A877-2D962B64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3B09-ED15-4D75-A33A-50A6C59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9839-00AE-4565-A1E5-A12B36B6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762120"/>
            <a:ext cx="7925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1CF4-48E3-4B11-8B7C-03FED2EF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DFC1-BC2F-4886-BFBB-81980029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7B8-9E49-4FEC-91C3-9012F714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2198-2720-413E-9922-7465590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0CED-0FA8-458B-B7AE-1DA5094A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85848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C3C8-FC07-4CDF-8700-D24F6D8C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07AA-2CA8-4863-997E-2B787E44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82844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385848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4714-8DC1-4EB9-AF39-91C6E2D6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5F6-04D9-4A9F-92FD-6A8672E0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F7F-EB40-46ED-9AE2-966B77A4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430-470D-4B9D-8101-B0682034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762120"/>
            <a:ext cx="7925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094-0D84-4EC6-BEBF-AE95500A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F3F-17E9-4225-8239-01C34728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85848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9E3-F28A-4BBE-9964-DD31F835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844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58480"/>
            <a:ext cx="7925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75A-3D7C-4CB9-8AB9-0062D04E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8D46-940B-47E0-8A60-CDFAE4F60308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Palatino Linotype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13C7-68D9-409C-BC56-DE3DD8C07B51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ffff00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Palatino Linotype"/>
              </a:rPr>
              <a:t>Third Outline Level</a:t>
            </a:r>
            <a:endParaRPr b="1" lang="en-US" sz="2000" spc="-1" strike="noStrike">
              <a:solidFill>
                <a:srgbClr val="ffff00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Palatino Linotype"/>
              </a:rPr>
              <a:t>Fourth Outline Level</a:t>
            </a:r>
            <a:endParaRPr b="1" lang="en-US" sz="1800" spc="-1" strike="noStrike">
              <a:solidFill>
                <a:srgbClr val="ffff00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ffff00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Palatino Linotype"/>
              </a:rPr>
              <a:t>Fifth Outline Level</a:t>
            </a:r>
            <a:endParaRPr b="1" lang="en-US" sz="1600" spc="-1" strike="noStrike">
              <a:solidFill>
                <a:srgbClr val="ffff00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Palatino Linotype"/>
              </a:rPr>
              <a:t>Sixth Outline Level</a:t>
            </a:r>
            <a:endParaRPr b="1" lang="en-US" sz="1600" spc="-1" strike="noStrike">
              <a:solidFill>
                <a:srgbClr val="ffff00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Palatino Linotype"/>
              </a:rPr>
              <a:t>Seventh Outline Level</a:t>
            </a:r>
            <a:endParaRPr b="1" lang="en-US" sz="1600" spc="-1" strike="noStrike">
              <a:solidFill>
                <a:srgbClr val="ffff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alatino Linotype"/>
              </a:rPr>
              <a:t>Life of Christ – Part 2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Palatino Linotype"/>
              </a:rPr>
              <a:t>“Sir, We Would See Jesus”</a:t>
            </a:r>
            <a:endParaRPr b="1" lang="en-US" sz="4000" spc="-1" strike="noStrike">
              <a:solidFill>
                <a:srgbClr val="ffff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274284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Quarter 10, Lesson 7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Pages 120-124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Luke 17:11 – 18:14; Mark 10:1-16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3504600" y="259092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3345000">
            <a:off x="3200040" y="38098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533520"/>
            <a:ext cx="3124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c Out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Years of Pr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ginning Min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eat Galilean Min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iod of Reti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Closing Min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Jesus starts His last journey to Jerusa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Last We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sur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xal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The Close of Jesus’ Ministry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(Outlined As Follows):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Palatino Linotype"/>
              </a:rPr>
              <a:t>From Fall To The Spring of His Death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Jesus arrived in Jerusalem for Feast of Tabernacles  - John 7-10; Luke 10-13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Feast of Dedication (three months before His death) – John 10:22-39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Jesus withdraws to Perea – John 10:40-42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Jesus starts His last journey to Jerusalem –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Lk. 17:11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st Journey To Jerusalem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Ten Lepers are healed – Lk. 17:12-19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One returns to give thanks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He is a Samaritan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How disheartening to God  Who gives such tremendous blessings and opportunities for healing of the soul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Jesus explains the nature of the kingdom and predicts judgment – Lk. 17:20-37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Not a location on the map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But, in the most important place of battle: inside the human heart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The heart would be severely tested in the days leading to the destruction of Jerusalem (AD 70)</a:t>
            </a: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st Journey To Jerusalem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Two Parables on Prayer (Luke 18:1-14):</a:t>
            </a:r>
            <a:endParaRPr b="1" lang="en-US" sz="28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The unrighteous judge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Persist and always believe that you can touch the heart of God (who is very righteous)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he Pharisee and the Publican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Pride will get you nowhere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Humility is always key to forgiveness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st Journey To Jerusalem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As Jesus travels from Galilee through Perea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Palatino Linotype"/>
              </a:rPr>
              <a:t>He teaches concerning divorce (Mark 10:1-12; Matt. 19:1-12)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Answers the question of whether it is lawful to    divorce for every reason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One flesh should not be separated – Gen. 2:24</a:t>
            </a:r>
            <a:endParaRPr b="1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Moses did not make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Palatino Linotype"/>
              </a:rPr>
              <a:t>certificate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of divorce a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ivine permission for any and every divorce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Some may have to be eunuchs (single) for the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sake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of the kingdom of God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The kingdom and the souls involved make it more than worth it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 Linotype"/>
              </a:rPr>
              <a:t>Last Journey To Jerusalem</a:t>
            </a:r>
            <a:endParaRPr b="1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alatino Linotype"/>
              </a:rPr>
              <a:t>Jesus receives little children (Mark 10:13-16; Matt. 19:13-15; Luke 18:15-17):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hey are valuable for the future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hey represent souls with great potential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They possess characteristics that illustrate what God wants from people entering His kingdom</a:t>
            </a:r>
            <a:endParaRPr b="1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Palatino Linotype"/>
            </a:endParaRPr>
          </a:p>
        </p:txBody>
      </p:sp>
    </p:spTree>
  </p:cSld>
  <p:transition>
    <p:wheel spokes="3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19:17:39Z</dcterms:created>
  <dc:creator>Terry W. Benton</dc:creator>
  <dc:description/>
  <dc:language>en-US</dc:language>
  <cp:lastModifiedBy>Frank D Vines</cp:lastModifiedBy>
  <dcterms:modified xsi:type="dcterms:W3CDTF">2006-07-29T21:46:31Z</dcterms:modified>
  <cp:revision>2</cp:revision>
  <dc:subject/>
  <dc:title>Life of Christ – Part 2 “Sir, We Would See Jesus”</dc:title>
</cp:coreProperties>
</file>